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DC2-A866-42D8-B3BE-93187B6E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9E0-67FC-4B57-AEB0-5BE3312D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5CA-ABB5-4DBA-84EB-7307A9C8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BC0-2461-4F10-8960-F2A9E775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617B-719C-4C66-A2E6-6453D7B0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3A17-71D8-46C4-8196-806C6D01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80B9-5713-4D76-98FC-01A0EF68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79E5-C5B3-4040-8774-8CE49E29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A1B2-4007-4326-B89C-C1CFF1CA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62B4-7E90-4B44-91FA-518F7429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60B8-4E10-469A-854F-449AA098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88E-DC49-4B65-8632-C2695B2A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9696-CDBB-4323-BA65-638BD1A3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2DB4-D26C-41B5-8064-2FE5E84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2953-D5F4-4952-A153-5984948E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78A9-7EE1-4C8E-AD04-BEF62762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0B95-03E5-4E0C-A096-31B0ECA5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0B3-D8C8-4604-BF8B-1790D4E2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54C-A4FA-41DD-A2C5-26294C6B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39A-EEEE-4B89-BB96-2E77587E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A05-3C1C-4F38-A49E-41918345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DEA-341C-4921-B77A-B35D801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CFD-7DA3-4AD5-810E-DCD1565D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E1D-4363-429F-B27B-A92276CD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FBCC-B53D-471F-8BCB-7B329AAB613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F8E4-3FB9-4B52-8033-BF1201C9AA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Catchup"/>
              </a:rPr>
              <a:t>Reading</a:t>
            </a:r>
            <a:br>
              <a:rPr sz="8000"/>
            </a:br>
            <a:r>
              <a:rPr b="0" lang="en-US" sz="8000" spc="-1" strike="noStrike">
                <a:solidFill>
                  <a:srgbClr val="ccecff"/>
                </a:solidFill>
                <a:latin typeface="Catchup"/>
              </a:rPr>
              <a:t>Discovery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tchup"/>
              </a:rPr>
              <a:t>Us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tchup"/>
              </a:rPr>
              <a:t>Non-fiction Strategies Effecti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71840" y="3762360"/>
            <a:ext cx="4772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Third Gea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kimming the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you need basic answers or information quick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don’t have to read every word, until you locate the information you n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4362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7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6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6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66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Fourth Gea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anning the text rapid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looking for a particular word or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eyes move quickly over the page until you find what you are looking f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81640" y="2438280"/>
            <a:ext cx="3762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800"/>
                            </p:stCondLst>
                            <p:childTnLst>
                              <p:par>
                                <p:cTn id="2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5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8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8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68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Before Read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Catchup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Catchup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tivate prior knowle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Catchup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te down won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Catchup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 a sp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81520" y="3819600"/>
            <a:ext cx="43624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400"/>
                            </p:stCondLst>
                            <p:childTnLst>
                              <p:par>
                                <p:cTn id="3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3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4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4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74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24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ecff"/>
                </a:solidFill>
                <a:uFillTx/>
                <a:latin typeface="Catchup"/>
              </a:rPr>
              <a:t>During</a:t>
            </a: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 Read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at you have prepared your brain, you are ready to rea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: “READING IS THINKING”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effective strategies to help you make sense of what you are read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76520" y="4487760"/>
            <a:ext cx="59148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400"/>
                            </p:stCondLst>
                            <p:childTnLst>
                              <p:par>
                                <p:cTn id="3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6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4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4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74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Visualiz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illustrations to help you create mental picture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in images from your own experiences so that you create a “Mental Movie”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52578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600"/>
                            </p:stCondLst>
                            <p:childTnLst>
                              <p:par>
                                <p:cTn id="3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4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6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16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Predic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y attention to section headings and subtitles to help you know what is coming 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questions, then search for  answers as you rea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657600" y="4068720"/>
            <a:ext cx="51055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200"/>
                            </p:stCondLst>
                            <p:childTnLst>
                              <p:par>
                                <p:cTn id="3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7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2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2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3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ecff"/>
                </a:solidFill>
                <a:uFillTx/>
                <a:latin typeface="Catchup"/>
              </a:rPr>
              <a:t>Before</a:t>
            </a: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 You Rea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e preparation stag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me and care take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efor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will make the actual reading experience easi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4197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40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4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4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Set A Purpos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ide why you are reading this inform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ake a decision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reate something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lp you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school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038480" y="4114800"/>
            <a:ext cx="48675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Preview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headlines and subtit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pictures and other graphics; read cap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kim side b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section outline in textbooks and artic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507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"/>
                            </p:stCondLst>
                            <p:childTnLst>
                              <p:par>
                                <p:cTn id="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2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2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2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12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atchup"/>
              </a:rPr>
              <a:t>Activate Prior Knowledg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57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what you already know about the sub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about connections to other knowledge you poss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114800" y="4191120"/>
            <a:ext cx="47242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200"/>
                            </p:stCondLst>
                            <p:childTnLst>
                              <p:par>
                                <p:cTn id="10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2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2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Write Question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6019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predictions about  information you expect to fi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e down things you wondered while preview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e questions you think might be answered by the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53578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600"/>
                            </p:stCondLst>
                            <p:childTnLst>
                              <p:par>
                                <p:cTn id="13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6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6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76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Set a Reading Spee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readers adjust their reading rate to fit the text and purp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about WHY you are reading and WHAT you are re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n pick a sp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400032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First Gea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ow, thoughtful re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the text is complex or difficu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you are reading to remember important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you are going to take 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038480" y="4503600"/>
            <a:ext cx="46483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600"/>
                            </p:stCondLst>
                            <p:childTnLst>
                              <p:par>
                                <p:cTn id="1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6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6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6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16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Second Gea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xed re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reading for pleas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the text is fairly simple for y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ple: reading a novel or magaz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33920" y="4037040"/>
            <a:ext cx="48765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800"/>
                            </p:stCondLst>
                            <p:childTnLst>
                              <p:par>
                                <p:cTn id="2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8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8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8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18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23:50:42Z</dcterms:created>
  <dc:creator>Paul Yardley</dc:creator>
  <dc:description/>
  <dc:language>en-US</dc:language>
  <cp:lastModifiedBy>Paul Yardley</cp:lastModifiedBy>
  <dcterms:modified xsi:type="dcterms:W3CDTF">2008-04-10T03:10:09Z</dcterms:modified>
  <cp:revision>15</cp:revision>
  <dc:subject/>
  <dc:title>Reading Discovery</dc:title>
</cp:coreProperties>
</file>